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6858000" cy="9907588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42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3"/>
          </p:nvPr>
        </p:nvSpPr>
        <p:spPr>
          <a:xfrm>
            <a:off x="381960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2104920" y="731880"/>
            <a:ext cx="25336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4"/>
          </p:nvPr>
        </p:nvSpPr>
        <p:spPr>
          <a:xfrm>
            <a:off x="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5"/>
          </p:nvPr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782E-DEE6-4BAA-B31E-05FA4E023C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3212-2ABA-493E-AD1F-E7CECBC32E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04920" y="731880"/>
            <a:ext cx="2533680" cy="3657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6DD-F0CD-435D-BCA8-3FBDE11A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461-816E-44A2-B37B-08C7639E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0DD-4161-41A4-B225-2AFF68A8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4D2-3D19-4CB5-9D63-0EAF3398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1EF0-4130-48E7-BE4D-D71744A5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EBF5-DA2E-42C5-9CA7-33B59275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8418-9E09-4EA7-B0A9-C6E55AF7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34B8-FABF-4E46-BF25-2153AD7B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5C8D-1668-47A9-810C-463885D0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2C93-BD8A-4245-AEA7-8E87237C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9EE8-AAE0-4EA7-A62C-404BE02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EFA-D667-46CF-B296-5C9FECF2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8145-A128-4A9E-9777-5CE451A3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71C7-B9F1-4B21-AF6F-CA0C37B0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DC03-5090-4FD7-903C-0C1052BF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07AD-F39E-4240-97CF-8FE8B5DA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6356-4FC5-4778-826C-903E82CC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4077-70F8-4679-957A-13CAEF29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64719-CCBD-4F05-843F-91E1AE51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0C0D-6835-4D34-A8A0-EC710A3C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2DB9-5964-44FC-93C4-C884AB50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56D4-5F7E-450C-855B-78C40E1D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262-4BC1-457E-A822-4DE7AA4C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E7ED-E069-45E7-A20E-3328771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816E-511F-400B-9477-AA4A99E5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00C4-F896-4AA8-93AA-F7FCA3D0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61959-F9CE-4286-BD56-7579DC55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DB20-FB30-4283-A1B8-8A43B796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8ED1-1A0F-4E48-8CEC-6E523E4E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341C-F36B-48F7-A065-46400E9B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588-8D1F-48B2-89CC-2E0AA450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BA50-6DF0-47B7-8DFE-C738EE78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FB1-2AAB-44CD-B3D0-065EEF1E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4A98-7276-49F9-9739-25B538DB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99A4C-3507-4441-8BC6-A9335D9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CA09-FC57-4E68-B780-5CAF34C2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67FD5-6A0E-4C18-92DF-60338063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1E79-94EA-46B5-AFC2-64858040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BD5F-6551-4C9F-BA45-AA504EC3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ECF21-62DE-4015-AFE9-0EF2938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C70ED-5D76-4DC9-98EF-A712CDB8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5604-4424-4155-8C4A-7190C574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4241-C2E1-4907-9E33-8AFC690C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AA7-E265-45C3-A1DD-3F325A49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E6173-3E68-4CD6-B514-1E8BB9DB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260-D828-4A16-9366-E453AE1F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D9C-955E-428F-AEAD-636286F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A59-5129-4693-B5E5-8CC8DBEE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FA89-EFB1-41EF-8A38-A8BD15DCB28F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CBBC-D3BC-4C53-8884-84635E7F4C4E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AA2E-51AF-4430-B3B9-F73D241D501C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1692360" y="-6480"/>
            <a:ext cx="0" cy="549360"/>
          </a:xfrm>
          <a:prstGeom prst="line">
            <a:avLst/>
          </a:prstGeom>
          <a:ln w="38160">
            <a:solidFill>
              <a:srgbClr val="4f6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3938760" y="0"/>
            <a:ext cx="2919240" cy="54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Thema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Sinnesleistungen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2828880" y="0"/>
            <a:ext cx="1109880" cy="542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LehrplanPLUS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B 8.2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719360" y="0"/>
            <a:ext cx="110952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Fach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Biologie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0" y="0"/>
            <a:ext cx="171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0" y="0"/>
            <a:ext cx="169236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62673"/>
                </a:solidFill>
                <a:latin typeface="Calibri"/>
                <a:ea typeface="Times New Roman"/>
              </a:rPr>
              <a:t>Bayern bilingual – Gymnasium 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5CA9-EFD1-4ADE-B0D1-0AE8737E029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6" descr="1406_Cochlea_modified"/>
          <p:cNvPicPr/>
          <p:nvPr/>
        </p:nvPicPr>
        <p:blipFill>
          <a:blip r:embed="rId1"/>
          <a:stretch/>
        </p:blipFill>
        <p:spPr>
          <a:xfrm>
            <a:off x="266760" y="6249960"/>
            <a:ext cx="6049800" cy="28400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1"/>
          <p:cNvSpPr/>
          <p:nvPr/>
        </p:nvSpPr>
        <p:spPr>
          <a:xfrm>
            <a:off x="1202400" y="67932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AB 2: Pictures of human ear and cochlea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217" name="Picture 32" descr="Blausen_EarAnatomy_modified"/>
          <p:cNvPicPr/>
          <p:nvPr/>
        </p:nvPicPr>
        <p:blipFill>
          <a:blip r:embed="rId2"/>
          <a:stretch/>
        </p:blipFill>
        <p:spPr>
          <a:xfrm>
            <a:off x="384120" y="1508040"/>
            <a:ext cx="5883480" cy="3952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3"/>
          <p:cNvSpPr/>
          <p:nvPr/>
        </p:nvSpPr>
        <p:spPr>
          <a:xfrm>
            <a:off x="2390760" y="5513400"/>
            <a:ext cx="411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333333"/>
                </a:solidFill>
                <a:latin typeface="Times New Roman"/>
              </a:rPr>
              <a:t>Fig. 1: The human ear.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2384280" y="9247320"/>
            <a:ext cx="411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333333"/>
                </a:solidFill>
                <a:latin typeface="Times New Roman"/>
              </a:rPr>
              <a:t>Fig. 2: The human cochlea.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20" name="Textfeld 1"/>
          <p:cNvSpPr/>
          <p:nvPr/>
        </p:nvSpPr>
        <p:spPr>
          <a:xfrm>
            <a:off x="-157680" y="9661680"/>
            <a:ext cx="70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Unicode MS"/>
              </a:rPr>
              <a:t>Both pictures: BruceBlaus, en.wikiversity.org/wiki/Wikiversity_Journal_of_Medicine/Blausen_gallery_2014 under CC BY 3.0, modified [23.01.2015] </a:t>
            </a:r>
            <a:endParaRPr b="1" lang="en-US" sz="8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57:32Z</dcterms:created>
  <dc:creator>Basti</dc:creator>
  <dc:description/>
  <dc:language>en-US</dc:language>
  <cp:lastModifiedBy>Müller, Monika, Dr.</cp:lastModifiedBy>
  <dcterms:modified xsi:type="dcterms:W3CDTF">2020-06-23T12:54:31Z</dcterms:modified>
  <cp:revision>83</cp:revision>
  <dc:subject/>
  <dc:title>Folie 1</dc:title>
</cp:coreProperties>
</file>