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</p:sldIdLst>
  <p:sldSz cx="6858000" cy="9907588"/>
  <p:notesSz cx="6742113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42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3"/>
          </p:nvPr>
        </p:nvSpPr>
        <p:spPr>
          <a:xfrm>
            <a:off x="3819600" y="0"/>
            <a:ext cx="2922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2104920" y="731880"/>
            <a:ext cx="253368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74640" y="4632480"/>
            <a:ext cx="539424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4"/>
          </p:nvPr>
        </p:nvSpPr>
        <p:spPr>
          <a:xfrm>
            <a:off x="0" y="9264600"/>
            <a:ext cx="2922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5"/>
          </p:nvPr>
        </p:nvSpPr>
        <p:spPr>
          <a:xfrm>
            <a:off x="3819600" y="9264600"/>
            <a:ext cx="2922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EB76-C0E9-465A-A720-CC3E5846F9F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19600" y="9264600"/>
            <a:ext cx="29224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2FAD-AACA-42BF-9957-A6DF5A660D1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104920" y="731880"/>
            <a:ext cx="2533680" cy="36576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4640" y="4632480"/>
            <a:ext cx="5394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F297-082C-4A06-AC49-C582A52A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4F0D-0C40-4BAC-9ED1-8E2862F2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AC99-9203-48D7-B247-8CD0F144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C6B2-F3A9-4C82-8FBA-F8DB6F36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FF8B-5D8B-4E34-A489-6DF35347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D1C4-D48B-4CE7-96F3-3B1B5035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9A1F-A139-4D2F-945A-1DF0E3BE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7211-4E3C-4E4D-BFC6-600404B4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69FB-FB2F-48CD-82BF-AD6C43D8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F31A-8C85-4051-9982-F534AA0F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2A8C-5BBE-4307-8D6F-272733F6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C960-C70F-47F6-A03A-AEAD6BBA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893A-9AA4-497F-BE2A-48E070EE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A70F-19B7-4BA0-9199-1A0FB507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8D4F-C9ED-49AB-9081-CE21F7D2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BDAB-B28E-45EF-9B40-89DE53C5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27D0-8659-4E96-AAA2-21B3D09E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1DA0D-4B42-4C69-A724-FCD2E6B1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65BBD-82E3-40D7-9A20-C1C6DBCC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6D94F-4892-4B54-BE86-210ADECB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763F1-2E9E-4FB5-936F-6AAD8F8B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4AF85-F06B-4A50-83E6-F058E9EE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C307-4BA0-4573-9838-497BBB25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18A7C-318B-47FF-B82A-8270C477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E609D-3EEE-44CD-A742-1E11F1EF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ACBC9-EA49-4FF5-8628-212AE6FF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181CF-2A40-4ACD-93D5-6E045461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F8FB1-0F11-471A-8FF7-6F688080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8790A-CDEC-4DE9-8C89-C0A032B1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B4786-D16B-49AD-B443-96B05A06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96FA-CF74-469A-9B34-793E31A5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FCDE7-43A3-4C2B-BCD1-9BDB58B52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E7FF-5E5D-47A8-B49B-38CDCDA4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E658F-D17B-4322-BD29-C062E003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29B33-D72F-4903-8B94-919D86DE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19314-43F7-43DB-8917-302D5DCA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BF3F0-9422-4959-92DB-5C0511F6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FCC18-F0E3-4692-AA94-F1B5082B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47A8E-6671-4F55-95E0-95637028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8054F-4DD0-4010-95C7-2F81E0C6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C32DE-6C33-4AAF-B175-0442150A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FC0C8-170D-4B69-9704-C6BBA7D3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B39DA-DDBA-41D6-9877-81B38813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E0C0-9B11-4329-B69A-0B8C5164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530DE-AA5B-4F77-9F02-F14A7138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8F46-651F-4D3D-A75E-9E59D580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585F-0F56-4724-9E88-1E242085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5507-D82E-46D2-B162-2FEFDE6C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CD54-4F3E-4348-B9A4-9D4854085013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9D72-2B3A-4500-9682-F2FC309FD92F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63BF-88E8-4174-910B-7A92B7FD1C27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14"/>
          <p:cNvSpPr/>
          <p:nvPr/>
        </p:nvSpPr>
        <p:spPr>
          <a:xfrm>
            <a:off x="1692360" y="-6480"/>
            <a:ext cx="0" cy="549360"/>
          </a:xfrm>
          <a:prstGeom prst="line">
            <a:avLst/>
          </a:prstGeom>
          <a:ln w="38160">
            <a:solidFill>
              <a:srgbClr val="4f6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3938760" y="0"/>
            <a:ext cx="2919240" cy="542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Calibri"/>
                <a:ea typeface="Times New Roman"/>
              </a:rPr>
              <a:t>Thema</a:t>
            </a:r>
            <a:endParaRPr b="1" lang="en-US" sz="11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100" spc="-1" strike="noStrike">
                <a:solidFill>
                  <a:srgbClr val="4b6ab7"/>
                </a:solidFill>
                <a:latin typeface="Calibri"/>
                <a:ea typeface="Times New Roman"/>
              </a:rPr>
              <a:t>Sinnesleistungen</a:t>
            </a:r>
            <a:endParaRPr b="1" lang="en-US" sz="11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2828880" y="0"/>
            <a:ext cx="1109880" cy="5428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Calibri"/>
                <a:ea typeface="Times New Roman"/>
              </a:rPr>
              <a:t>LehrplanPLUS</a:t>
            </a:r>
            <a:endParaRPr b="1" lang="en-US" sz="11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100" spc="-1" strike="noStrike">
                <a:solidFill>
                  <a:srgbClr val="4b6ab7"/>
                </a:solidFill>
                <a:latin typeface="Calibri"/>
                <a:ea typeface="Times New Roman"/>
              </a:rPr>
              <a:t>B 8.2</a:t>
            </a:r>
            <a:endParaRPr b="1" lang="en-US" sz="11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719360" y="0"/>
            <a:ext cx="1109520" cy="54288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Calibri"/>
                <a:ea typeface="Times New Roman"/>
              </a:rPr>
              <a:t>Fach</a:t>
            </a:r>
            <a:endParaRPr b="1" lang="en-US" sz="11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100" spc="-1" strike="noStrike">
                <a:solidFill>
                  <a:srgbClr val="4b6ab7"/>
                </a:solidFill>
                <a:latin typeface="Calibri"/>
                <a:ea typeface="Times New Roman"/>
              </a:rPr>
              <a:t>Biologie</a:t>
            </a:r>
            <a:endParaRPr b="1" lang="en-US" sz="11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0" y="0"/>
            <a:ext cx="17193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0" y="0"/>
            <a:ext cx="1692360" cy="54288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262673"/>
                </a:solidFill>
                <a:latin typeface="Calibri"/>
                <a:ea typeface="Times New Roman"/>
              </a:rPr>
              <a:t>Bayern bilingual – Gymnasium </a:t>
            </a:r>
            <a:endParaRPr b="1" lang="en-US" sz="11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491F-0022-4828-AFEF-630592BD517A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494720" y="765000"/>
            <a:ext cx="384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alibri"/>
              </a:rPr>
              <a:t>AB 3: A Hearing test – left or right?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12760" y="1285920"/>
            <a:ext cx="6478560" cy="284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Task 1: Do the following experiment and note down your observations.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314280" y="1628640"/>
            <a:ext cx="626436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4960" indent="-1434960" algn="just">
              <a:lnSpc>
                <a:spcPct val="150000"/>
              </a:lnSpc>
              <a:tabLst>
                <a:tab algn="l" pos="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  <a:tab algn="l" pos="8325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terial needed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ubber tube (at least 1.5</a:t>
            </a:r>
            <a:r>
              <a:rPr b="0" lang="en-GB" sz="1200" spc="-1" strike="noStrike">
                <a:solidFill>
                  <a:srgbClr val="000000"/>
                </a:solidFill>
                <a:latin typeface="Maiandra GD"/>
                <a:ea typeface="Times New Roman"/>
              </a:rPr>
              <a:t>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 long; with the exact middle of the tube marked), pencil or wooden stick.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marL="1434960" indent="-1434960" algn="just">
              <a:lnSpc>
                <a:spcPct val="150000"/>
              </a:lnSpc>
              <a:tabLst>
                <a:tab algn="l" pos="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  <a:tab algn="l" pos="8325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1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lace the tube on a table, and a chair with its back next to the table.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marL="1434960" indent="-1434960" algn="just">
              <a:lnSpc>
                <a:spcPct val="150000"/>
              </a:lnSpc>
              <a:tabLst>
                <a:tab algn="l" pos="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  <a:tab algn="l" pos="8325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e person sits with their back towards the table, holding the tube openings close to their ears (cf. picture).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marL="1434960" indent="-1434960" algn="just">
              <a:lnSpc>
                <a:spcPct val="150000"/>
              </a:lnSpc>
              <a:tabLst>
                <a:tab algn="l" pos="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  <a:tab algn="l" pos="8325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other person taps the tube gently (!) with the pencil, starting at the marked centre and moving away from it.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marL="1434960" indent="-1434960" algn="just">
              <a:lnSpc>
                <a:spcPct val="150000"/>
              </a:lnSpc>
              <a:tabLst>
                <a:tab algn="l" pos="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  <a:tab algn="l" pos="8325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bservation 1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 ______________________________________________________________________________________________________________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marL="1434960" indent="-1434960" algn="just">
              <a:lnSpc>
                <a:spcPct val="150000"/>
              </a:lnSpc>
              <a:tabLst>
                <a:tab algn="l" pos="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  <a:tab algn="l" pos="8325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2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peat the experiment holding only one opening near one ear.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marL="1434960" indent="-1434960" algn="just">
              <a:lnSpc>
                <a:spcPct val="150000"/>
              </a:lnSpc>
              <a:tabLst>
                <a:tab algn="l" pos="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  <a:tab algn="l" pos="8325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bservation 2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 ______________________________________________________________________________________________________________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grpSp>
        <p:nvGrpSpPr>
          <p:cNvPr id="218" name="Group 13"/>
          <p:cNvGrpSpPr/>
          <p:nvPr/>
        </p:nvGrpSpPr>
        <p:grpSpPr>
          <a:xfrm>
            <a:off x="349200" y="2457000"/>
            <a:ext cx="1211400" cy="1213920"/>
            <a:chOff x="349200" y="2457000"/>
            <a:chExt cx="1211400" cy="1213920"/>
          </a:xfrm>
        </p:grpSpPr>
        <p:pic>
          <p:nvPicPr>
            <p:cNvPr id="219" name="Picture 11" descr="Experiment Richtungshören 9b"/>
            <p:cNvPicPr/>
            <p:nvPr/>
          </p:nvPicPr>
          <p:blipFill>
            <a:blip r:embed="rId1"/>
            <a:stretch/>
          </p:blipFill>
          <p:spPr>
            <a:xfrm>
              <a:off x="517680" y="2531880"/>
              <a:ext cx="10429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2"/>
            <p:cNvSpPr/>
            <p:nvPr/>
          </p:nvSpPr>
          <p:spPr>
            <a:xfrm rot="5400000">
              <a:off x="-149760" y="2955960"/>
              <a:ext cx="1213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808080"/>
                  </a:solidFill>
                  <a:latin typeface="Arial Unicode MS"/>
                </a:rPr>
                <a:t>Photo: S. Reitzenstein</a:t>
              </a:r>
              <a:endParaRPr b="1" lang="en-US" sz="800" spc="-1" strike="noStrike" u="sng">
                <a:solidFill>
                  <a:srgbClr val="000000"/>
                </a:solidFill>
                <a:uFillTx/>
                <a:latin typeface="Arial Unicode MS"/>
              </a:endParaRPr>
            </a:p>
          </p:txBody>
        </p:sp>
      </p:grpSp>
      <p:sp>
        <p:nvSpPr>
          <p:cNvPr id="221" name="Text Box 6"/>
          <p:cNvSpPr/>
          <p:nvPr/>
        </p:nvSpPr>
        <p:spPr>
          <a:xfrm>
            <a:off x="203040" y="5764320"/>
            <a:ext cx="6478920" cy="284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Task 2: Fill in the gaps.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301680" y="6118200"/>
            <a:ext cx="6264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4960" indent="-1434960" algn="just">
              <a:lnSpc>
                <a:spcPct val="150000"/>
              </a:lnSpc>
              <a:tabLst>
                <a:tab algn="l" pos="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  <a:tab algn="l" pos="8325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ackground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ur brain is able to use subtle differences in __________ to localize a sound source: If a sound comes from the left, for instance, it will arrive at our left ear fractions of a second ___________ than at our right ear. This is enough for our brain to know the difference.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08080" y="7631280"/>
            <a:ext cx="6478560" cy="284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Task 3: Complete the exercises.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336600" y="7972560"/>
            <a:ext cx="6264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4960" indent="-1434960" algn="just">
              <a:lnSpc>
                <a:spcPct val="150000"/>
              </a:lnSpc>
              <a:tabLst>
                <a:tab algn="l" pos="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  <a:tab algn="l" pos="8325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ercise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und waves travel at 331 m/s in the air, and at 1480 m/s in water.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marL="1434960" indent="-1434960" algn="just">
              <a:lnSpc>
                <a:spcPct val="150000"/>
              </a:lnSpc>
              <a:tabLst>
                <a:tab algn="l" pos="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  <a:tab algn="l" pos="8325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) Calculate the time difference between the tapping noise reaching the right ear and the left ear if you tap 1.0 cm to the left of the middle </a:t>
            </a:r>
            <a:r>
              <a:rPr b="0" lang="en-GB" sz="1200" spc="-1" strike="noStrike">
                <a:solidFill>
                  <a:srgbClr val="000000"/>
                </a:solidFill>
                <a:latin typeface="Maiandra GD"/>
                <a:ea typeface="Times New Roman"/>
              </a:rPr>
              <a:t>–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a distance that is sufficient to know the difference.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marL="1434960" indent="-1434960" algn="just">
              <a:lnSpc>
                <a:spcPct val="150000"/>
              </a:lnSpc>
              <a:tabLst>
                <a:tab algn="l" pos="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  <a:tab algn="l" pos="8325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 Find an explanation why sound localization underwater is impossible for humans.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5:57:32Z</dcterms:created>
  <dc:creator>Basti</dc:creator>
  <dc:description/>
  <dc:language>en-US</dc:language>
  <cp:lastModifiedBy>Müller, Monika, Dr.</cp:lastModifiedBy>
  <dcterms:modified xsi:type="dcterms:W3CDTF">2020-06-23T12:45:31Z</dcterms:modified>
  <cp:revision>83</cp:revision>
  <dc:subject/>
  <dc:title>Folie 1</dc:title>
</cp:coreProperties>
</file>