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4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5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68C5-2A69-4070-8C3E-0EF00808DF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295-C522-4D19-8F84-9DB9C23479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E01-C30C-4337-A192-147D6FB0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757-C901-4802-B0FC-718CC60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2E9-A881-46DC-AB0E-C643C4B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787-580A-4BAB-BE93-6DDFDE93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1916-829B-407A-A0DE-442184D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1149-00BF-45E2-BF5C-51D55FE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38DE-1600-4BE7-B74E-0C6AD69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A656-5A4F-4A84-93BB-93F4F97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FEAA-4B26-4909-8286-7F919E9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B03D-5977-4C14-BEB3-AB3CF22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2A2-16A4-4E2C-B818-94C8D63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49E-891E-42EC-9B5A-13F04862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2AB-B163-4B4F-AD24-607713A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74F-D903-4D36-B817-90D1CE9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1B6A-495F-45B5-BA0A-FAF51B96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D95E-3D10-4E91-977B-47E767C6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DF01-2534-487F-8082-99BA3137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E373-BB13-40D0-BE3A-C8F5187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BBC7-997F-44BD-830A-2467F4FA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5973-8494-4856-84B4-A9F1610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D952-D063-4A30-AE54-490139E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2BC2-42BE-42E8-BF00-91C1FCC1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95F-3AED-473E-A84E-5350041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DCE9-D6C2-42DE-BB5B-9CC8BB2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2C0F-2600-4FDF-9F59-39126B0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7AC9-6524-4942-999E-7749224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2D95-E569-498F-8474-B725135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6783-F24B-4B83-A599-B5B07D2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9DD7-8E3D-4ECE-A89A-DA4FE68A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37FF-3C5B-40BD-BD7A-9F88DB9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D20-D3E0-4041-A062-D28E702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05FD-B49E-4299-A3CF-2C1345E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BFE-0A25-4A11-B370-7F05B150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7F34-A222-46C4-B9A8-3199710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E73A-868C-4CF0-ADEC-B5EE1CC9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6E93-6143-4A03-8890-E9B0A460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8AB1-A574-4E85-AF60-1716606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058D-EDF7-49BB-BB3B-792196AD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1231-1D74-4B0E-A15B-0CD42C8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CF4C-BDBF-4C3F-8D62-1F1A3C46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F77F-94D7-4EE0-8AD3-63BFC40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9A31-06BA-47A6-9076-9231384D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FDEF-FD96-4F08-8006-8E2CBA71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B80-7BA2-430D-B735-BE98FDA5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D0A5-2085-4876-A2AC-91FF172D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C77-6DE1-46AD-B0CB-E72878C5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65D-A554-4611-BD5B-F0A2CD4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D59-BEEF-4D6D-96A6-83458CD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7BC-BC52-4734-BD14-C4D1206F0105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1874-DABE-4557-B9B6-F19C2826694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D49-7716-424A-8018-985F03E74C9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938760" y="0"/>
            <a:ext cx="291924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Thema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Sinnesleistungen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LehrplanPLUS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 8.2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Fach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iologie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0" y="0"/>
            <a:ext cx="169236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62673"/>
                </a:solidFill>
                <a:latin typeface="Calibri"/>
                <a:ea typeface="Times New Roman"/>
              </a:rPr>
              <a:t>Bayern bilingual – Gymnasium 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6A2-3ABE-491C-BD21-BF45357BCAE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3"/>
          <p:cNvSpPr/>
          <p:nvPr/>
        </p:nvSpPr>
        <p:spPr>
          <a:xfrm>
            <a:off x="2390760" y="551340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333333"/>
                </a:solidFill>
                <a:latin typeface="Times New Roman"/>
              </a:rPr>
              <a:t>Fig. 1: The human ear.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16" name="Textfeld 1"/>
          <p:cNvSpPr/>
          <p:nvPr/>
        </p:nvSpPr>
        <p:spPr>
          <a:xfrm>
            <a:off x="-50400" y="9661680"/>
            <a:ext cx="20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Unicode MS"/>
              </a:rPr>
              <a:t>Copyright: Sivantos (www.sivantos.com)</a:t>
            </a:r>
            <a:endParaRPr b="1" lang="en-US" sz="8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30765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212840" y="819000"/>
            <a:ext cx="45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AB 5 Teen Hearing Danger Ahead - Poster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220" name="Grafik 2" descr=""/>
          <p:cNvPicPr/>
          <p:nvPr/>
        </p:nvPicPr>
        <p:blipFill>
          <a:blip r:embed="rId1"/>
          <a:stretch/>
        </p:blipFill>
        <p:spPr>
          <a:xfrm>
            <a:off x="490680" y="1828800"/>
            <a:ext cx="5713200" cy="73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Müller, Monika, Dr.</cp:lastModifiedBy>
  <dcterms:modified xsi:type="dcterms:W3CDTF">2020-06-23T11:35:56Z</dcterms:modified>
  <cp:revision>83</cp:revision>
  <dc:subject/>
  <dc:title>Folie 1</dc:title>
</cp:coreProperties>
</file>