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189000" y="0"/>
          <a:ext cx="14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0"/>
                    <a:ext cx="14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048280" y="0"/>
            <a:ext cx="180972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Thema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Mikroorganismen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&amp; Biotechnologie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938760" y="0"/>
            <a:ext cx="110952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LehrplanPLUS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 9.2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Lehrplanbezug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 8.1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Fach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iologie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lickr.com/photos/javalatte/9538520170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27640" y="817560"/>
            <a:ext cx="52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LH 2:</a:t>
            </a:r>
            <a:r>
              <a:rPr b="1" i="1" lang="de-DE" sz="2000" spc="-1" strike="noStrike">
                <a:solidFill>
                  <a:srgbClr val="333399"/>
                </a:solidFill>
                <a:latin typeface="Arial"/>
              </a:rPr>
              <a:t> Lösung zu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 AB1 How to make yogurt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38040" y="1528920"/>
            <a:ext cx="6224760" cy="641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irst, complete the paragraphs 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material needed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procedure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 using the words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 Unicode MS"/>
              </a:rPr>
              <a:t>cooling, plain, bed, milk, boiling, lukewarm,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i="1" lang="en-GB" sz="1200" spc="-1" strike="noStrike">
                <a:solidFill>
                  <a:srgbClr val="000000"/>
                </a:solidFill>
                <a:latin typeface="Arial Unicode MS"/>
              </a:rPr>
              <a:t> froth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hen make your own yogurt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41280" y="2443320"/>
            <a:ext cx="62215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terial needed: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50 ml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milk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whether it’s whole, semi-skimmed or skimmed is up to you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bs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plain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yogurt (check that it contains “live active yogurt cultures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saucepan, a spoon, a screw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to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jar, and, if available,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thermometer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hotplate and a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cooling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bath (mixture of water and ice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41280" y="4297320"/>
            <a:ext cx="40942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cedure: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at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the milk to around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85 °C.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t this temperature, the milk might begin to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froth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cf. photo). Cool the milk to 40 °C by carefully placing the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ucepan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of milk in a cooling bath. Stir occasionally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anwhile, sterilise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poon and screw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to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jar in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boiling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water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338040" y="8091360"/>
            <a:ext cx="6224760" cy="914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fety note: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sh your hands before you start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ke sure your worktop is completely clean and keep it tidy!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49" name="Picture 16" descr="Frothing milk"/>
          <p:cNvPicPr/>
          <p:nvPr/>
        </p:nvPicPr>
        <p:blipFill>
          <a:blip r:embed="rId1">
            <a:grayscl/>
          </a:blip>
          <a:stretch/>
        </p:blipFill>
        <p:spPr>
          <a:xfrm>
            <a:off x="4541760" y="446400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7"/>
          <p:cNvSpPr/>
          <p:nvPr/>
        </p:nvSpPr>
        <p:spPr>
          <a:xfrm>
            <a:off x="5211720" y="6072120"/>
            <a:ext cx="8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Unicode MS"/>
              </a:rPr>
              <a:t>Frothing milk</a:t>
            </a:r>
            <a:endParaRPr b="1" lang="en-US" sz="8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341280" y="6297480"/>
            <a:ext cx="62215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dd 3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bsp</a:t>
            </a:r>
            <a:r>
              <a:rPr b="0" lang="en-GB" sz="12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gurt to the now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lukewarm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milk. Stir well.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ill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mixture into your screw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to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jar. Close the jar tightly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79280" indent="-1792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eep the jar at around 35 to 40 °C for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bout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2 hours. (You could place it on a radiator or in your </a:t>
            </a:r>
            <a:r>
              <a:rPr b="0" lang="en-GB" sz="12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bed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Be creative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!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2" name="Text Box 18"/>
          <p:cNvSpPr/>
          <p:nvPr/>
        </p:nvSpPr>
        <p:spPr>
          <a:xfrm rot="16200000">
            <a:off x="5441760" y="5016600"/>
            <a:ext cx="16653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808080"/>
                </a:solidFill>
                <a:latin typeface="Arial"/>
              </a:rPr>
              <a:t>Photo: Java Latte, </a:t>
            </a:r>
            <a:r>
              <a:rPr b="0" lang="de-DE" sz="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lickr.com/photos/javalatte/9538520170</a:t>
            </a:r>
            <a:r>
              <a:rPr b="0" lang="de-DE" sz="500" spc="-1" strike="noStrike">
                <a:solidFill>
                  <a:srgbClr val="808080"/>
                </a:solidFill>
                <a:latin typeface="Arial"/>
              </a:rPr>
              <a:t> under CC BY-SA 2.0 [30.05.15]</a:t>
            </a:r>
            <a:endParaRPr b="1" lang="en-US" sz="5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7:32Z</dcterms:created>
  <dc:creator>Basti</dc:creator>
  <dc:description/>
  <dc:language>en-US</dc:language>
  <cp:lastModifiedBy>Bernhard Brunner</cp:lastModifiedBy>
  <dcterms:modified xsi:type="dcterms:W3CDTF">2017-03-09T11:37:54Z</dcterms:modified>
  <cp:revision>115</cp:revision>
  <dc:subject/>
  <dc:title>Folie 1</dc:title>
</cp:coreProperties>
</file>