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907588"/>
  <p:notesSz cx="6742113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42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19600" y="0"/>
            <a:ext cx="2922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2106360" y="731880"/>
            <a:ext cx="253188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74640" y="4632480"/>
            <a:ext cx="539424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0" y="9264600"/>
            <a:ext cx="2922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19600" y="9264600"/>
            <a:ext cx="2922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18E8-3C2C-4468-A7BD-D3F3BC17FF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3819600" y="9264600"/>
            <a:ext cx="29224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2BA7-93DF-4915-A73F-BAB52F1A77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2106720" y="731880"/>
            <a:ext cx="2531880" cy="36576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74640" y="4632480"/>
            <a:ext cx="5394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0"/>
          <p:cNvGraphicFramePr/>
          <p:nvPr/>
        </p:nvGraphicFramePr>
        <p:xfrm>
          <a:off x="189000" y="0"/>
          <a:ext cx="1409760" cy="59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9000" y="0"/>
                    <a:ext cx="140976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11"/>
          <p:cNvSpPr/>
          <p:nvPr/>
        </p:nvSpPr>
        <p:spPr>
          <a:xfrm>
            <a:off x="0" y="0"/>
            <a:ext cx="171936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3"/>
          <p:cNvSpPr/>
          <p:nvPr/>
        </p:nvSpPr>
        <p:spPr>
          <a:xfrm>
            <a:off x="1692360" y="-6480"/>
            <a:ext cx="0" cy="549360"/>
          </a:xfrm>
          <a:prstGeom prst="line">
            <a:avLst/>
          </a:prstGeom>
          <a:ln w="38160">
            <a:solidFill>
              <a:srgbClr val="4f6a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5048280" y="0"/>
            <a:ext cx="1809720" cy="542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999999"/>
                </a:solidFill>
                <a:latin typeface="Arial"/>
                <a:ea typeface="ＭＳ Ｐゴシック"/>
              </a:rPr>
              <a:t>The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4b6ab7"/>
                </a:solidFill>
                <a:latin typeface="Arial"/>
                <a:ea typeface="ＭＳ Ｐゴシック"/>
              </a:rPr>
              <a:t>Mikroorganis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4b6ab7"/>
                </a:solidFill>
                <a:latin typeface="Arial"/>
                <a:ea typeface="ＭＳ Ｐゴシック"/>
              </a:rPr>
              <a:t>&amp; Biotechnolog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5"/>
          <p:cNvSpPr/>
          <p:nvPr/>
        </p:nvSpPr>
        <p:spPr>
          <a:xfrm>
            <a:off x="3938760" y="0"/>
            <a:ext cx="1109520" cy="54288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999999"/>
                </a:solidFill>
                <a:latin typeface="Arial"/>
                <a:ea typeface="ＭＳ Ｐゴシック"/>
              </a:rPr>
              <a:t>LehrplanPL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4b6ab7"/>
                </a:solidFill>
                <a:latin typeface="Arial"/>
                <a:ea typeface="ＭＳ Ｐゴシック"/>
              </a:rPr>
              <a:t>B 9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6"/>
          <p:cNvSpPr/>
          <p:nvPr/>
        </p:nvSpPr>
        <p:spPr>
          <a:xfrm>
            <a:off x="2828880" y="0"/>
            <a:ext cx="1109880" cy="5428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999999"/>
                </a:solidFill>
                <a:latin typeface="Arial"/>
                <a:ea typeface="ＭＳ Ｐゴシック"/>
              </a:rPr>
              <a:t>Lehrplanbezu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4b6ab7"/>
                </a:solidFill>
                <a:latin typeface="Arial"/>
                <a:ea typeface="ＭＳ Ｐゴシック"/>
              </a:rPr>
              <a:t>B 8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1719360" y="0"/>
            <a:ext cx="1109520" cy="54288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999999"/>
                </a:solidFill>
                <a:latin typeface="Arial"/>
                <a:ea typeface="ＭＳ Ｐゴシック"/>
              </a:rPr>
              <a:t>F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4b6ab7"/>
                </a:solidFill>
                <a:latin typeface="Arial"/>
                <a:ea typeface="ＭＳ Ｐゴシック"/>
              </a:rPr>
              <a:t>Biolog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flickr.com/photos/vegan-baking/4391217526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Probiotic yogurt_klein"/>
          <p:cNvPicPr/>
          <p:nvPr/>
        </p:nvPicPr>
        <p:blipFill>
          <a:blip r:embed="rId1"/>
          <a:stretch/>
        </p:blipFill>
        <p:spPr>
          <a:xfrm>
            <a:off x="406440" y="1419120"/>
            <a:ext cx="6024600" cy="74883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819360" y="801720"/>
            <a:ext cx="519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333399"/>
                </a:solidFill>
                <a:latin typeface="Arial"/>
              </a:rPr>
              <a:t>FO 1: Probiotic yogurt – a healthy snac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536400" y="8970840"/>
            <a:ext cx="598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hoto: Veganbaking.net, </a:t>
            </a:r>
            <a:r>
              <a:rPr b="0" lang="en-GB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lickr.com/photos/vegan-baking/4391217526/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under CC BY-SA 2.0 [28.04.2016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3T13:12:02Z</dcterms:created>
  <dc:creator>SR</dc:creator>
  <dc:description/>
  <dc:language>en-US</dc:language>
  <cp:lastModifiedBy>Bernhard Brunner</cp:lastModifiedBy>
  <dcterms:modified xsi:type="dcterms:W3CDTF">2017-03-09T11:30:17Z</dcterms:modified>
  <cp:revision>8</cp:revision>
  <dc:subject/>
  <dc:title>Folie 1</dc:title>
</cp:coreProperties>
</file>