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106360" y="731880"/>
            <a:ext cx="253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F16-C485-4556-AF73-0A56CB83F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9600" y="9264600"/>
            <a:ext cx="2922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9C1-23BE-4BCC-8307-F3A5879AD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6720" y="731880"/>
            <a:ext cx="2531880" cy="36576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4640" y="4632480"/>
            <a:ext cx="5394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189000" y="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1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3"/>
          <p:cNvSpPr/>
          <p:nvPr/>
        </p:nvSpPr>
        <p:spPr>
          <a:xfrm>
            <a:off x="1692360" y="-6480"/>
            <a:ext cx="0" cy="54936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5048280" y="0"/>
            <a:ext cx="1809720" cy="54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Th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Mikroorganis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&amp; Biotechn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3938760" y="0"/>
            <a:ext cx="1109520" cy="542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2828880" y="0"/>
            <a:ext cx="1109880" cy="542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Lehrplanbez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 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1719360" y="0"/>
            <a:ext cx="1109520" cy="542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  <a:ea typeface="ＭＳ Ｐゴシック"/>
              </a:rPr>
              <a:t>F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  <a:ea typeface="ＭＳ Ｐゴシック"/>
              </a:rPr>
              <a:t>Biolo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0"/>
          <p:cNvSpPr/>
          <p:nvPr/>
        </p:nvSpPr>
        <p:spPr>
          <a:xfrm>
            <a:off x="1462320" y="625320"/>
            <a:ext cx="39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AB 7: Back in the jigsaw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525600" y="990720"/>
            <a:ext cx="5857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ve read about different bacteria, but dealt with quite similar questions. Tell each other what you’ve found 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520560" y="1652760"/>
            <a:ext cx="585792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zotobact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eed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can they help to make our lives more conven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eed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can they help to make our lives more conven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lcanivorax borkumensi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can they help to make our lives more conven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cidithiobacill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eed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can they help to make our lives more conven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503280" y="8161200"/>
            <a:ext cx="5857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ic organisms are capable of self-nourishment by producing sugar from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using photosynthesis or chemosynthesis as a source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ic organisms cannot manufacture their own food and have to obtain food and energy by taking in organic substances, usually plant or animal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bel the boxes on the right-hand side according to whether these bacteria are autotrophic or heterotro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6404040" y="6980400"/>
            <a:ext cx="216000" cy="1054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2"/>
          <p:cNvSpPr/>
          <p:nvPr/>
        </p:nvSpPr>
        <p:spPr>
          <a:xfrm>
            <a:off x="6404040" y="5380200"/>
            <a:ext cx="21888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3"/>
          <p:cNvSpPr/>
          <p:nvPr/>
        </p:nvSpPr>
        <p:spPr>
          <a:xfrm>
            <a:off x="6404040" y="3792600"/>
            <a:ext cx="218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4"/>
          <p:cNvSpPr/>
          <p:nvPr/>
        </p:nvSpPr>
        <p:spPr>
          <a:xfrm>
            <a:off x="6404040" y="2205000"/>
            <a:ext cx="216000" cy="1054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3:12:02Z</dcterms:created>
  <dc:creator>SR</dc:creator>
  <dc:description/>
  <dc:language>en-US</dc:language>
  <cp:lastModifiedBy>Bernhard Brunner</cp:lastModifiedBy>
  <dcterms:modified xsi:type="dcterms:W3CDTF">2017-03-09T11:28:55Z</dcterms:modified>
  <cp:revision>46</cp:revision>
  <dc:subject/>
  <dc:title>Folie 1</dc:title>
</cp:coreProperties>
</file>