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42113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5"/>
          <p:cNvGraphicFramePr/>
          <p:nvPr/>
        </p:nvGraphicFramePr>
        <p:xfrm>
          <a:off x="189000" y="0"/>
          <a:ext cx="1409760" cy="59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9000" y="0"/>
                    <a:ext cx="14097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6"/>
          <p:cNvSpPr/>
          <p:nvPr/>
        </p:nvSpPr>
        <p:spPr>
          <a:xfrm>
            <a:off x="0" y="0"/>
            <a:ext cx="1719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1692360" y="-6480"/>
            <a:ext cx="0" cy="552600"/>
          </a:xfrm>
          <a:prstGeom prst="line">
            <a:avLst/>
          </a:prstGeom>
          <a:ln w="38160">
            <a:solidFill>
              <a:srgbClr val="4f6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048280" y="0"/>
            <a:ext cx="1809720" cy="542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999999"/>
                </a:solidFill>
                <a:latin typeface="Arial"/>
              </a:rPr>
              <a:t>The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</a:rPr>
              <a:t>Mikroorganis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</a:rPr>
              <a:t>&amp; Biotechnolog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938760" y="0"/>
            <a:ext cx="1109520" cy="5428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999999"/>
                </a:solidFill>
                <a:latin typeface="Arial"/>
              </a:rPr>
              <a:t>Lehrplan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</a:rPr>
              <a:t>B 9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2828880" y="0"/>
            <a:ext cx="1109880" cy="5428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999999"/>
                </a:solidFill>
                <a:latin typeface="Arial"/>
              </a:rPr>
              <a:t>Lehrplanbezu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</a:rPr>
              <a:t>B 8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1719360" y="0"/>
            <a:ext cx="1109520" cy="54288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999999"/>
                </a:solidFill>
                <a:latin typeface="Arial"/>
              </a:rPr>
              <a:t>F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</a:rPr>
              <a:t>Biolog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00120" y="5321160"/>
            <a:ext cx="58579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sk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raph shows how, according to the four-phase-model, populations of bacteria develop over the course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phas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the number of bacteria stays constant. This might be due to the fact that bacteria have to adapt to new conditions when they come to a new environment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unable to multiply during this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growing phas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the population starts to grow – slowly at first, but then faster and even faster,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til at some point the growth rate decreases again, maybe because of a lack of food or space, or because of bacteria dying due to poisonous waste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there is no further growth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ationary phas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as been re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ally, living conditions become so bad that a lot of bacteria die. Soon, the bacteria die faster then they multiply, and their numbers fall. This is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ath phas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sk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those biotopes are unoccupied, disease-causing bacteria can take their chance and multiply exponentially. a) harms bacteria on our skin, b) harms bacteria in our digestive t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990720" y="878040"/>
            <a:ext cx="48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H 3: </a:t>
            </a:r>
            <a:r>
              <a:rPr b="1" i="1" lang="de-DE" sz="2000" spc="-1" strike="noStrike">
                <a:solidFill>
                  <a:srgbClr val="333399"/>
                </a:solidFill>
                <a:latin typeface="Arial"/>
              </a:rPr>
              <a:t>Lösung zu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AB 2 Bacterial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600120" y="1450800"/>
            <a:ext cx="5857920" cy="31284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wartungshorizont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mpl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3"/>
          <p:cNvGrpSpPr/>
          <p:nvPr/>
        </p:nvGrpSpPr>
        <p:grpSpPr>
          <a:xfrm>
            <a:off x="1711440" y="2149560"/>
            <a:ext cx="3600000" cy="3018960"/>
            <a:chOff x="1711440" y="2149560"/>
            <a:chExt cx="3600000" cy="3018960"/>
          </a:xfrm>
        </p:grpSpPr>
        <p:sp>
          <p:nvSpPr>
            <p:cNvPr id="48" name="Text Box 14"/>
            <p:cNvSpPr/>
            <p:nvPr/>
          </p:nvSpPr>
          <p:spPr>
            <a:xfrm rot="16200000">
              <a:off x="4795920" y="2479320"/>
              <a:ext cx="84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600" spc="-1" strike="noStrike">
                  <a:solidFill>
                    <a:srgbClr val="000000"/>
                  </a:solidFill>
                  <a:latin typeface="Arial"/>
                </a:rPr>
                <a:t>(c) A. Schmidkunz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15" descr="Bacterial growth_4+konstant+verschoben"/>
            <p:cNvPicPr/>
            <p:nvPr/>
          </p:nvPicPr>
          <p:blipFill>
            <a:blip r:embed="rId1"/>
            <a:stretch/>
          </p:blipFill>
          <p:spPr>
            <a:xfrm>
              <a:off x="1711440" y="2246040"/>
              <a:ext cx="3403800" cy="2922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13:12:02Z</dcterms:created>
  <dc:creator>SR</dc:creator>
  <dc:description/>
  <dc:language>en-US</dc:language>
  <cp:lastModifiedBy>Bernhard Brunner</cp:lastModifiedBy>
  <dcterms:modified xsi:type="dcterms:W3CDTF">2017-03-09T11:39:20Z</dcterms:modified>
  <cp:revision>27</cp:revision>
  <dc:subject/>
  <dc:title>Folie 1</dc:title>
</cp:coreProperties>
</file>