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189000" y="95400"/>
          <a:ext cx="140976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95400"/>
                    <a:ext cx="1409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0"/>
            <a:ext cx="171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92360" y="-6480"/>
            <a:ext cx="0" cy="692280"/>
          </a:xfrm>
          <a:prstGeom prst="line">
            <a:avLst/>
          </a:prstGeom>
          <a:ln w="38160">
            <a:solidFill>
              <a:srgbClr val="4f6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048280" y="0"/>
            <a:ext cx="180972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Thema</a:t>
            </a:r>
            <a:endParaRPr b="1" lang="en-US" sz="9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Mikroorganismen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&amp; Biotechnologie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938760" y="0"/>
            <a:ext cx="1109520" cy="68580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LehrplanPLUS</a:t>
            </a:r>
            <a:endParaRPr b="1" lang="en-US" sz="9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B 9.2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828880" y="0"/>
            <a:ext cx="1109880" cy="6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Lehrplanbezug</a:t>
            </a:r>
            <a:endParaRPr b="1" lang="en-US" sz="9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B 8.1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719360" y="0"/>
            <a:ext cx="1109520" cy="68580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999999"/>
                </a:solidFill>
                <a:latin typeface="Arial"/>
              </a:rPr>
              <a:t>Fach</a:t>
            </a:r>
            <a:endParaRPr b="1" lang="en-US" sz="9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4b6ab7"/>
                </a:solidFill>
                <a:latin typeface="Arial"/>
              </a:rPr>
              <a:t>Biologie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lickr.com/photos/javalatte/9538520170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773360" y="874800"/>
            <a:ext cx="33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AB 1: How to make yogurt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38040" y="1585800"/>
            <a:ext cx="6224760" cy="641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irst, complete the paragraphs 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material needed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procedure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 using the words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 Unicode MS"/>
              </a:rPr>
              <a:t>cooling, plain, bed, milk, boiling, lukewarm,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i="1" lang="en-GB" sz="1200" spc="-1" strike="noStrike">
                <a:solidFill>
                  <a:srgbClr val="000000"/>
                </a:solidFill>
                <a:latin typeface="Arial Unicode MS"/>
              </a:rPr>
              <a:t> froth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Then make your own yogurt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41280" y="2500200"/>
            <a:ext cx="62215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terial needed: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50 ml ________ (whether it’s whole, semi-skimmed or skimmed is up to you)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bsp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__________ yogurt (check that it contains “live active yogurt cultures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saucepan, a spoon, a screw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top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jar, and, if available,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thermometer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hotplate and a ______________ bath (mixture of water and ice)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41280" y="4354560"/>
            <a:ext cx="46753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ocedure: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at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the milk to around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85 °C.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t this temperature, the milk might begin to ___________ (cf. photo). Cool the milk to 40 °C by carefully placing the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aucepan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of milk in a cooling bath. Stir occasionally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anwhile, sterilise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poon and screw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top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jar in ______________ water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338040" y="8148600"/>
            <a:ext cx="6224760" cy="914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afety note: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sh your hands before you start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ke sure your worktop is completely clean and keep it tidy!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pic>
        <p:nvPicPr>
          <p:cNvPr id="49" name="Picture 16" descr="Frothing milk"/>
          <p:cNvPicPr/>
          <p:nvPr/>
        </p:nvPicPr>
        <p:blipFill>
          <a:blip r:embed="rId1">
            <a:grayscl/>
          </a:blip>
          <a:stretch/>
        </p:blipFill>
        <p:spPr>
          <a:xfrm>
            <a:off x="5016600" y="4697280"/>
            <a:ext cx="1546200" cy="154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 rot="16200000">
            <a:off x="5968800" y="5321520"/>
            <a:ext cx="1452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808080"/>
                </a:solidFill>
                <a:latin typeface="Arial"/>
              </a:rPr>
              <a:t>Photo: Java Latte, </a:t>
            </a:r>
            <a:r>
              <a:rPr b="0" lang="de-DE" sz="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lickr.com/photos/javalatte/9538520170</a:t>
            </a:r>
            <a:r>
              <a:rPr b="0" lang="de-DE" sz="500" spc="-1" strike="noStrike">
                <a:solidFill>
                  <a:srgbClr val="808080"/>
                </a:solidFill>
                <a:latin typeface="Arial"/>
              </a:rPr>
              <a:t> under CC BY-SA 2.0 [30.05.15]</a:t>
            </a:r>
            <a:endParaRPr b="1" lang="en-US" sz="5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865480" y="6195960"/>
            <a:ext cx="8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Unicode MS"/>
              </a:rPr>
              <a:t>Frothing milk</a:t>
            </a:r>
            <a:endParaRPr b="1" lang="en-US" sz="8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41280" y="6354720"/>
            <a:ext cx="62215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dd 3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bsp</a:t>
            </a:r>
            <a:r>
              <a:rPr b="0" lang="en-GB" sz="12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ogurt to the now ________________ milk. Stir well.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ill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 mixture into your screw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top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jar. Close the jar tightly.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eep the jar at around 35 to 40 °C for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bout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2 hours. (You could place it on a radiator or in your ________. Be creative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!)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  <a:p>
            <a:pPr marL="181080" indent="-18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57:32Z</dcterms:created>
  <dc:creator>Basti</dc:creator>
  <dc:description/>
  <dc:language>en-US</dc:language>
  <cp:lastModifiedBy>Bernhard Brunner</cp:lastModifiedBy>
  <dcterms:modified xsi:type="dcterms:W3CDTF">2017-03-09T11:15:40Z</dcterms:modified>
  <cp:revision>113</cp:revision>
  <dc:subject/>
  <dc:title>Folie 1</dc:title>
</cp:coreProperties>
</file>